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2.wmf" ContentType="image/x-wmf"/>
  <Override PartName="/ppt/media/image8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14.wmf" ContentType="image/x-wmf"/>
  <Override PartName="/ppt/media/image5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3.wmf" ContentType="image/x-wmf"/>
  <Override PartName="/ppt/media/image6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AB6-80EF-49E8-BD66-576B9F52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A44-CF1A-4473-9F90-23A722CE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46A-6B7E-4B50-A370-7856D6A3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79E-E636-4DBD-A74B-03CE49AB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CCE-E415-4274-8AC3-F42310C9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A9D-2406-4278-9DC4-DD38C32B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E8C-C0FF-49D8-8E4B-B857744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B6D-7DAD-4025-8847-D08A55D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353-97A5-4355-AEA7-3A5A599F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44B-7881-4562-B570-91C0C8C5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570-BD9D-43AB-B1B8-0C39D7A4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6B95-4809-421B-A83F-F6F2718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8D8-2ED3-4EE8-B806-5DA4FD16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fängerunterricht Chemie in Klasse 8 statt in Klass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üssen, können, sollten wir anders und/oder  besser ma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i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640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ativ: Vorstellungen über den Gaszusta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e füllen den Raum vollständig aus, der ihnen zugänglich 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wegung der Teilchen im Gaszustan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0120" y="3527280"/>
            <a:ext cx="3017880" cy="2926080"/>
            <a:chOff x="330120" y="3527280"/>
            <a:chExt cx="3017880" cy="2926080"/>
          </a:xfrm>
        </p:grpSpPr>
        <p:sp>
          <p:nvSpPr>
            <p:cNvPr id="70" name=""/>
            <p:cNvSpPr/>
            <p:nvPr/>
          </p:nvSpPr>
          <p:spPr>
            <a:xfrm>
              <a:off x="330120" y="3527280"/>
              <a:ext cx="3017880" cy="29260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725400" y="3808800"/>
              <a:ext cx="2170440" cy="2316600"/>
              <a:chOff x="725400" y="3808800"/>
              <a:chExt cx="2170440" cy="231660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725400" y="5902920"/>
                <a:ext cx="3492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72080" y="5918760"/>
                <a:ext cx="56772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1635120" y="530640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524600" y="5331240"/>
                <a:ext cx="10332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1419120" y="560664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1386360" y="5604840"/>
                <a:ext cx="3492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1392120" y="5719680"/>
                <a:ext cx="49608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1359720" y="5420520"/>
                <a:ext cx="523440" cy="3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375200" y="4890240"/>
                <a:ext cx="45360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18720" y="4898880"/>
                <a:ext cx="50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307960" y="4898520"/>
                <a:ext cx="15084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55920" y="515952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flipV="1">
                <a:off x="2698200" y="5006160"/>
                <a:ext cx="69840" cy="3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2491920" y="5032800"/>
                <a:ext cx="19404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97680" y="5249880"/>
                <a:ext cx="87840" cy="49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585520" y="4884840"/>
                <a:ext cx="31032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flipV="1">
                <a:off x="2687760" y="433512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2231280" y="380880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766520" y="3814200"/>
                <a:ext cx="47412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308600" y="397476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898200" y="4439520"/>
                <a:ext cx="3967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99640" y="4447440"/>
                <a:ext cx="69840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1592280" y="4531680"/>
                <a:ext cx="52560" cy="29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1436760" y="4548600"/>
                <a:ext cx="19836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35680" y="4581720"/>
                <a:ext cx="0" cy="60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39640" y="5173560"/>
                <a:ext cx="496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1473120" y="4870800"/>
                <a:ext cx="46296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481400" y="4738320"/>
                <a:ext cx="37872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859040" y="4215600"/>
                <a:ext cx="302040" cy="5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1683720" y="4048200"/>
                <a:ext cx="473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80840" y="4056840"/>
                <a:ext cx="2592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38960" y="435132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148480" y="464400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2199600" y="4218120"/>
                <a:ext cx="252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760400" y="4232160"/>
                <a:ext cx="43632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417320" y="4472640"/>
                <a:ext cx="35280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240" y="1700280"/>
            <a:ext cx="8702640" cy="1609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16040" y="2244600"/>
            <a:ext cx="360072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7000" y="3573360"/>
            <a:ext cx="2192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477040" y="3435480"/>
          <a:ext cx="3624120" cy="34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7040" y="3435480"/>
                    <a:ext cx="362412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6095880" y="1182600"/>
            <a:ext cx="2246400" cy="2246400"/>
            <a:chOff x="6095880" y="1182600"/>
            <a:chExt cx="2246400" cy="2246400"/>
          </a:xfrm>
        </p:grpSpPr>
        <p:sp>
          <p:nvSpPr>
            <p:cNvPr id="115" name=""/>
            <p:cNvSpPr/>
            <p:nvPr/>
          </p:nvSpPr>
          <p:spPr>
            <a:xfrm>
              <a:off x="6095880" y="1182600"/>
              <a:ext cx="2246400" cy="2246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68240" y="1254960"/>
              <a:ext cx="2103840" cy="2105640"/>
              <a:chOff x="6168240" y="1254960"/>
              <a:chExt cx="2103840" cy="2105640"/>
            </a:xfrm>
          </p:grpSpPr>
          <p:sp>
            <p:nvSpPr>
              <p:cNvPr id="117" name=""/>
              <p:cNvSpPr/>
              <p:nvPr/>
            </p:nvSpPr>
            <p:spPr>
              <a:xfrm>
                <a:off x="7245720" y="2311560"/>
                <a:ext cx="102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42840" y="2313000"/>
                <a:ext cx="101196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32760" y="231264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31680" y="2311560"/>
                <a:ext cx="890280" cy="51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28440" y="2316600"/>
                <a:ext cx="78624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29520" y="231732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17280" y="2313360"/>
                <a:ext cx="513000" cy="88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18000" y="2322720"/>
                <a:ext cx="351360" cy="9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18360" y="2322720"/>
                <a:ext cx="17856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217280" y="125496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7218720" y="1272960"/>
                <a:ext cx="178200" cy="10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7218360" y="1329120"/>
                <a:ext cx="351000" cy="9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216920" y="1406520"/>
                <a:ext cx="51336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7223400" y="151236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7223760" y="1637640"/>
                <a:ext cx="7862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219440" y="1798560"/>
                <a:ext cx="888480" cy="51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7228440" y="1957680"/>
                <a:ext cx="964440" cy="3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7229520" y="2131920"/>
                <a:ext cx="10101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17280" y="233244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037280" y="2331720"/>
                <a:ext cx="178560" cy="10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6864840" y="2321280"/>
                <a:ext cx="351360" cy="9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703920" y="2319840"/>
                <a:ext cx="51336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550200" y="2316960"/>
                <a:ext cx="659880" cy="78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423840" y="2318400"/>
                <a:ext cx="786240" cy="65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324120" y="2305440"/>
                <a:ext cx="89028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239520" y="230652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194160" y="2307240"/>
                <a:ext cx="10101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168240" y="2302560"/>
                <a:ext cx="102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6184440" y="2122920"/>
                <a:ext cx="1011960" cy="17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6240600" y="1950120"/>
                <a:ext cx="965880" cy="35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6318000" y="1788840"/>
                <a:ext cx="89028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6425280" y="1635840"/>
                <a:ext cx="78624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6549840" y="1508040"/>
                <a:ext cx="66096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6711120" y="1409400"/>
                <a:ext cx="514080" cy="89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6870600" y="1324800"/>
                <a:ext cx="351000" cy="96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7044840" y="1277640"/>
                <a:ext cx="178560" cy="10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 flipV="1">
            <a:off x="3429000" y="2581200"/>
            <a:ext cx="2438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306400">
            <a:off x="3206880" y="2503440"/>
            <a:ext cx="2660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4714920"/>
            <a:ext cx="29718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12800">
            <a:off x="2987640" y="422064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ängen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6320" y="2855880"/>
            <a:ext cx="3017880" cy="2925720"/>
            <a:chOff x="76320" y="2855880"/>
            <a:chExt cx="3017880" cy="2925720"/>
          </a:xfrm>
        </p:grpSpPr>
        <p:sp>
          <p:nvSpPr>
            <p:cNvPr id="158" name=""/>
            <p:cNvSpPr/>
            <p:nvPr/>
          </p:nvSpPr>
          <p:spPr>
            <a:xfrm>
              <a:off x="76320" y="2855880"/>
              <a:ext cx="3017880" cy="29257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71600" y="3137040"/>
              <a:ext cx="2170440" cy="2316600"/>
              <a:chOff x="471600" y="3137040"/>
              <a:chExt cx="2170440" cy="23166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71600" y="5231160"/>
                <a:ext cx="349200" cy="20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8280" y="5247000"/>
                <a:ext cx="567720" cy="20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381320" y="4634640"/>
                <a:ext cx="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270800" y="4659480"/>
                <a:ext cx="103320" cy="2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165320" y="493488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132560" y="4933080"/>
                <a:ext cx="3492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138320" y="5047920"/>
                <a:ext cx="49608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1105920" y="4748760"/>
                <a:ext cx="523440" cy="3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121400" y="4218480"/>
                <a:ext cx="453600" cy="54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64920" y="4227120"/>
                <a:ext cx="50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054160" y="4226760"/>
                <a:ext cx="150840" cy="26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02120" y="448776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2444400" y="4334400"/>
                <a:ext cx="69840" cy="3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238120" y="4361040"/>
                <a:ext cx="19404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43880" y="4578120"/>
                <a:ext cx="87840" cy="49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331720" y="4213080"/>
                <a:ext cx="31032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2433960" y="366336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1977480" y="313704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512720" y="3142440"/>
                <a:ext cx="474120" cy="17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054800" y="3303000"/>
                <a:ext cx="453240" cy="5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644400" y="3767760"/>
                <a:ext cx="39672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5840" y="3775680"/>
                <a:ext cx="698400" cy="40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338480" y="3859920"/>
                <a:ext cx="52560" cy="29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182960" y="3876840"/>
                <a:ext cx="19836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81880" y="3909960"/>
                <a:ext cx="0" cy="60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85840" y="4501800"/>
                <a:ext cx="49644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1219320" y="4199040"/>
                <a:ext cx="462960" cy="38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1227600" y="4066560"/>
                <a:ext cx="378720" cy="13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605240" y="3543840"/>
                <a:ext cx="302040" cy="52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1429920" y="3376440"/>
                <a:ext cx="473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27040" y="3385080"/>
                <a:ext cx="25920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85160" y="3679560"/>
                <a:ext cx="206640" cy="56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894680" y="3972240"/>
                <a:ext cx="308880" cy="25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1945800" y="3546360"/>
                <a:ext cx="252000" cy="43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506600" y="3560400"/>
                <a:ext cx="43632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163520" y="3800880"/>
                <a:ext cx="352800" cy="61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71280" y="13161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enommenes 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2193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1341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mauflösung: 352 x 288 Pixel; 27,1 Bilder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1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9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22050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chtungsinformation trennen von der Längeninform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2682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4344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2760" y="2073240"/>
            <a:ext cx="4305240" cy="4380120"/>
            <a:chOff x="482760" y="2073240"/>
            <a:chExt cx="4305240" cy="438012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2760" y="2073240"/>
              <a:ext cx="4305240" cy="438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860040" y="2754360"/>
              <a:ext cx="3340440" cy="3333600"/>
              <a:chOff x="860040" y="2754360"/>
              <a:chExt cx="3340440" cy="3333600"/>
            </a:xfrm>
          </p:grpSpPr>
          <p:sp>
            <p:nvSpPr>
              <p:cNvPr id="208" name=""/>
              <p:cNvSpPr/>
              <p:nvPr/>
            </p:nvSpPr>
            <p:spPr>
              <a:xfrm>
                <a:off x="2543040" y="4419720"/>
                <a:ext cx="16574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2542320" y="4020480"/>
                <a:ext cx="1608480" cy="401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530440" y="3672000"/>
                <a:ext cx="1505160" cy="7524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522520" y="3239640"/>
                <a:ext cx="1181160" cy="117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2527200" y="2919240"/>
                <a:ext cx="762120" cy="1495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2527200" y="2820600"/>
                <a:ext cx="533520" cy="159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2527200" y="2754360"/>
                <a:ext cx="0" cy="1657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1993680" y="2830680"/>
                <a:ext cx="533160" cy="1581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1765440" y="2928960"/>
                <a:ext cx="761760" cy="1495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326960" y="3230280"/>
                <a:ext cx="1199880" cy="119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1012680" y="3658680"/>
                <a:ext cx="1524240" cy="762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907560" y="3878280"/>
                <a:ext cx="1629000" cy="542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860040" y="4129200"/>
                <a:ext cx="1676520" cy="295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66520" y="4421160"/>
                <a:ext cx="16570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898200" y="4421160"/>
                <a:ext cx="1638360" cy="523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022040" y="4421160"/>
                <a:ext cx="1514520" cy="733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336680" y="4421160"/>
                <a:ext cx="1200240" cy="1181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498320" y="4421160"/>
                <a:ext cx="1028520" cy="133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1765080" y="4421160"/>
                <a:ext cx="771480" cy="1486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36920" y="4421160"/>
                <a:ext cx="0" cy="1666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36920" y="4414680"/>
                <a:ext cx="533160" cy="1590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36920" y="4421160"/>
                <a:ext cx="742680" cy="1486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36920" y="4421160"/>
                <a:ext cx="1199880" cy="1190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36920" y="4411800"/>
                <a:ext cx="1390680" cy="933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46280" y="4421160"/>
                <a:ext cx="1486080" cy="7430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36920" y="4421160"/>
                <a:ext cx="1590480" cy="533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36920" y="4421160"/>
                <a:ext cx="1628640" cy="4096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708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che Pfeile doppe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Richtung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596736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Längen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59673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64000" y="1700280"/>
            <a:ext cx="33116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ittl. Verschieb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Reibungskoeffiz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Kugelra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95280" y="3035160"/>
                <a:ext cx="301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5280" y="4275000"/>
                <a:ext cx="31417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s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Δt</m:t>
                                </m:r>
                              </m:e>
                            </m:rad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95280" y="1771560"/>
            <a:ext cx="4829040" cy="1162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9" name=""/>
          <p:cNvSpPr/>
          <p:nvPr/>
        </p:nvSpPr>
        <p:spPr>
          <a:xfrm>
            <a:off x="5364000" y="3032280"/>
            <a:ext cx="24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Beweglich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 Zeitspa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9560" y="5388120"/>
            <a:ext cx="29530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35640" y="3933720"/>
            <a:ext cx="3668760" cy="417600"/>
            <a:chOff x="5435640" y="3933720"/>
            <a:chExt cx="3668760" cy="417600"/>
          </a:xfrm>
        </p:grpSpPr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435640" y="3938760"/>
                  <a:ext cx="315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5611680" y="3933720"/>
              <a:ext cx="34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Verdana"/>
                </a:rPr>
                <a:t>: „mittl. Geschwindigkeit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5280" y="5535720"/>
            <a:ext cx="54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hr Bilder pro Sekunde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größere „Durchschnittsgeschwindigkei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2170080"/>
            <a:ext cx="5967360" cy="4283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9640" y="479736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cience on stag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Volker Martini, B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tsächliche Messwerte:    Geschwindigkeits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2803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m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8360" y="1886040"/>
            <a:ext cx="2746440" cy="3703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708360" y="1916280"/>
            <a:ext cx="51116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di-Mikroskop: Firma Trav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urchlicht, Auflicht, 49 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jektive: 4x, 10x, 40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kulare: 10x, 16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gitales Okular incl.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2520" y="1860480"/>
            <a:ext cx="2808360" cy="3745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3828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m Experi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1320" y="2610000"/>
            <a:ext cx="4581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720" y="-3600"/>
            <a:ext cx="91868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50920" y="1844640"/>
          <a:ext cx="163836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163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79280" y="1268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ur Auswer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681280" y="1773360"/>
          <a:ext cx="621180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81280" y="1773360"/>
                    <a:ext cx="62118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108000" y="26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re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rownsche Bew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268280"/>
            <a:ext cx="5184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genschaften des Gaszust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mogene Raumausfül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mogene Verteilung der Bewegungsr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270400" y="1236600"/>
            <a:ext cx="3807000" cy="5543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35640" y="1268280"/>
            <a:ext cx="34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öchste Symmetr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Hohe Reproduzierbar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852640"/>
            <a:ext cx="4753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omogene Mischbarkeit aller Gase unterein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ptisch isot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heitliche Gasgesetze (real, id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6120" y="55641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se - unordentl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ase - regel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5200" y="5110200"/>
            <a:ext cx="3859200" cy="223920"/>
          </a:xfrm>
          <a:custGeom>
            <a:avLst/>
            <a:gdLst/>
            <a:ahLst/>
            <a:rect l="l" t="t" r="r" b="b"/>
            <a:pathLst>
              <a:path w="2431" h="141">
                <a:moveTo>
                  <a:pt x="0" y="42"/>
                </a:moveTo>
                <a:cubicBezTo>
                  <a:pt x="1207" y="88"/>
                  <a:pt x="1315" y="141"/>
                  <a:pt x="2067" y="76"/>
                </a:cubicBezTo>
                <a:cubicBezTo>
                  <a:pt x="2110" y="65"/>
                  <a:pt x="2153" y="50"/>
                  <a:pt x="2194" y="33"/>
                </a:cubicBezTo>
                <a:cubicBezTo>
                  <a:pt x="2217" y="23"/>
                  <a:pt x="2237" y="0"/>
                  <a:pt x="2262" y="0"/>
                </a:cubicBezTo>
                <a:cubicBezTo>
                  <a:pt x="2318" y="0"/>
                  <a:pt x="2375" y="0"/>
                  <a:pt x="2431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6600" y="5734080"/>
            <a:ext cx="3979800" cy="239760"/>
          </a:xfrm>
          <a:custGeom>
            <a:avLst/>
            <a:gdLst/>
            <a:ahLst/>
            <a:rect l="l" t="t" r="r" b="b"/>
            <a:pathLst>
              <a:path w="2507" h="151">
                <a:moveTo>
                  <a:pt x="0" y="17"/>
                </a:moveTo>
                <a:cubicBezTo>
                  <a:pt x="351" y="151"/>
                  <a:pt x="751" y="36"/>
                  <a:pt x="1126" y="33"/>
                </a:cubicBezTo>
                <a:cubicBezTo>
                  <a:pt x="1373" y="0"/>
                  <a:pt x="1463" y="20"/>
                  <a:pt x="1812" y="25"/>
                </a:cubicBezTo>
                <a:cubicBezTo>
                  <a:pt x="1951" y="32"/>
                  <a:pt x="2093" y="19"/>
                  <a:pt x="2228" y="50"/>
                </a:cubicBezTo>
                <a:cubicBezTo>
                  <a:pt x="2238" y="52"/>
                  <a:pt x="2243" y="64"/>
                  <a:pt x="2253" y="67"/>
                </a:cubicBezTo>
                <a:cubicBezTo>
                  <a:pt x="2311" y="87"/>
                  <a:pt x="2378" y="104"/>
                  <a:pt x="2439" y="118"/>
                </a:cubicBezTo>
                <a:cubicBezTo>
                  <a:pt x="2483" y="140"/>
                  <a:pt x="2460" y="135"/>
                  <a:pt x="2507" y="135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3240" y="1405080"/>
            <a:ext cx="7308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änomene zeigen, Avogadro plausibel mach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dehnen sich unterschiedlich stark aus. (Schülerexperi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e dehnen sich gleich stark au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Lehrerexperi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372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26828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ase sind sehr stark kompressibel: Volumenänderung bei Druck- oder Temperaturänderung. Hier: Luft, bzw. Helium im Kolbenpr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71600" y="2179800"/>
            <a:ext cx="46767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0200" y="1376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der mit einer speziellen Kolbenproberhei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9400" y="2424240"/>
            <a:ext cx="470376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62308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mente Chemie 1, Klett Verla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376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 Nomogramm ist undurchsichti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14680" y="2168640"/>
            <a:ext cx="5715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2360" y="155736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essere Alterna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71600" y="2349360"/>
            <a:ext cx="4600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viel Gasgesetz ist noch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380960" y="1855800"/>
          <a:ext cx="63820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855800"/>
                    <a:ext cx="63820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692360" y="1413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bessere Alterna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9:54:39Z</dcterms:created>
  <dc:creator>jungermann</dc:creator>
  <dc:description/>
  <dc:language>en-US</dc:language>
  <cp:lastModifiedBy>jungermann</cp:lastModifiedBy>
  <dcterms:modified xsi:type="dcterms:W3CDTF">2009-02-20T20:35:51Z</dcterms:modified>
  <cp:revision>10</cp:revision>
  <dc:subject/>
  <dc:title>Folie 1</dc:title>
</cp:coreProperties>
</file>